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761760" y="177840"/>
            <a:ext cx="7607160" cy="65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61760" y="4058280"/>
            <a:ext cx="76071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9840" y="181620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176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59840" y="4058280"/>
            <a:ext cx="371196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3396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06520" y="181620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7617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3396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06520" y="4058280"/>
            <a:ext cx="2449440" cy="2047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6120" y="1638360"/>
            <a:ext cx="8039160" cy="4673520"/>
          </a:xfrm>
          <a:prstGeom prst="roundRect">
            <a:avLst>
              <a:gd name="adj" fmla="val 815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1" marL="673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2" marL="105408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3" marL="143496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4" marL="1816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5" marL="1816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6" marL="1816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46120" y="533520"/>
            <a:ext cx="8039160" cy="5778360"/>
          </a:xfrm>
          <a:prstGeom prst="roundRect">
            <a:avLst>
              <a:gd name="adj" fmla="val 657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761760" y="977400"/>
            <a:ext cx="7607160" cy="4915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323280" indent="-323280">
              <a:spcBef>
                <a:spcPts val="33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1" marL="659520" indent="-323280">
              <a:spcBef>
                <a:spcPts val="33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2" marL="1032840" indent="-323280">
              <a:spcBef>
                <a:spcPts val="33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3" marL="1406160" indent="-323280">
              <a:spcBef>
                <a:spcPts val="33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4" marL="1779840" indent="-323280">
              <a:spcBef>
                <a:spcPts val="33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5" marL="1779840" indent="-323280">
              <a:spcBef>
                <a:spcPts val="33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6" marL="1779840" indent="-323280">
              <a:spcBef>
                <a:spcPts val="33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7607160" cy="1994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7607160" cy="7873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1760" y="1028520"/>
            <a:ext cx="7607160" cy="533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38160" tIns="38160" bIns="38160" anchor="t">
            <a:normAutofit fontScale="1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2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3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4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5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6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3080" y="5892480"/>
            <a:ext cx="6464520" cy="330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14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333080" y="6184800"/>
            <a:ext cx="6464520" cy="2923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38160" tIns="38160" bIns="38160" anchor="ctr">
            <a:normAutofit fontScale="2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1" i="1" lang="en-US" sz="1000" spc="-1" strike="noStrike">
              <a:solidFill>
                <a:srgbClr val="ffffff"/>
              </a:solidFill>
              <a:latin typeface="Palatino"/>
            </a:endParaRPr>
          </a:p>
          <a:p>
            <a:pPr lvl="1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1" i="1" lang="en-US" sz="1000" spc="-1" strike="noStrike">
              <a:solidFill>
                <a:srgbClr val="ffffff"/>
              </a:solidFill>
              <a:latin typeface="Palatino"/>
            </a:endParaRPr>
          </a:p>
          <a:p>
            <a:pPr lvl="2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1" i="1" lang="en-US" sz="1000" spc="-1" strike="noStrike">
              <a:solidFill>
                <a:srgbClr val="ffffff"/>
              </a:solidFill>
              <a:latin typeface="Palatino"/>
            </a:endParaRPr>
          </a:p>
          <a:p>
            <a:pPr lvl="3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1" i="1" lang="en-US" sz="1000" spc="-1" strike="noStrike">
              <a:solidFill>
                <a:srgbClr val="ffffff"/>
              </a:solidFill>
              <a:latin typeface="Palatino"/>
            </a:endParaRPr>
          </a:p>
          <a:p>
            <a:pPr lvl="4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1" i="1" lang="en-US" sz="1000" spc="-1" strike="noStrike">
              <a:solidFill>
                <a:srgbClr val="ffffff"/>
              </a:solidFill>
              <a:latin typeface="Palatino"/>
            </a:endParaRPr>
          </a:p>
          <a:p>
            <a:pPr lvl="5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1" i="1" lang="en-US" sz="1000" spc="-1" strike="noStrike">
              <a:solidFill>
                <a:srgbClr val="ffffff"/>
              </a:solidFill>
              <a:latin typeface="Palatino"/>
            </a:endParaRPr>
          </a:p>
          <a:p>
            <a:pPr lvl="6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1" i="1" lang="en-US" sz="1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46120" y="1638360"/>
            <a:ext cx="8039160" cy="4673520"/>
          </a:xfrm>
          <a:prstGeom prst="roundRect">
            <a:avLst>
              <a:gd name="adj" fmla="val 815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3012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1" marL="673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2" marL="105408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3" marL="143496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4" marL="1816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5" marL="1816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6" marL="1816200" indent="-33012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6120" y="1638360"/>
            <a:ext cx="8039160" cy="4673520"/>
          </a:xfrm>
          <a:prstGeom prst="roundRect">
            <a:avLst>
              <a:gd name="adj" fmla="val 815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61760" y="1816200"/>
            <a:ext cx="37083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27396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1" marL="5587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2" marL="87480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3" marL="119088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4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5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6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46120" y="1638360"/>
            <a:ext cx="8039160" cy="4673520"/>
          </a:xfrm>
          <a:prstGeom prst="roundRect">
            <a:avLst>
              <a:gd name="adj" fmla="val 815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673160" y="1816200"/>
            <a:ext cx="37083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27396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1" marL="5587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2" marL="87480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3" marL="119088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4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5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6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1760" y="1816200"/>
            <a:ext cx="37083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27396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1" marL="5587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2" marL="87480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3" marL="119088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4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5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lvl="6" marL="1507320" indent="-273960">
              <a:spcBef>
                <a:spcPts val="22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1760" y="1155240"/>
            <a:ext cx="3708360" cy="2273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61760" y="3416400"/>
            <a:ext cx="3708360" cy="23493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38160" rIns="38160" tIns="38160" bIns="38160" anchor="t">
            <a:normAutofit fontScale="8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1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2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3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4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5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  <a:p>
            <a:pPr lvl="6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StJohnsAshfield_StainedGlass_GoodShepherd_Face.jpg" TargetMode="External"/><Relationship Id="rId3" Type="http://schemas.openxmlformats.org/officeDocument/2006/relationships/hyperlink" Target="http://en.wikipedia.org/wiki/Timeline_of_Christianity" TargetMode="External"/><Relationship Id="rId4" Type="http://schemas.openxmlformats.org/officeDocument/2006/relationships/hyperlink" Target="http://en.wikipedia.org/wiki/Bishop_(Catholic_Church)" TargetMode="External"/><Relationship Id="rId5" Type="http://schemas.openxmlformats.org/officeDocument/2006/relationships/hyperlink" Target="http://en.wikipedia.org/wiki/Roman_Catholicism" TargetMode="External"/><Relationship Id="rId6" Type="http://schemas.openxmlformats.org/officeDocument/2006/relationships/hyperlink" Target="http://catholicgreetings.org/viewingcard.aspx?cardid=771" TargetMode="External"/><Relationship Id="rId7" Type="http://schemas.openxmlformats.org/officeDocument/2006/relationships/hyperlink" Target="http://en.wikipedia.org/wiki/Cardinal_(Catholicism)" TargetMode="External"/><Relationship Id="rId8" Type="http://schemas.openxmlformats.org/officeDocument/2006/relationships/hyperlink" Target="http://en.wikipedia.org/wiki/Deacon" TargetMode="External"/><Relationship Id="rId9" Type="http://schemas.openxmlformats.org/officeDocument/2006/relationships/hyperlink" Target="http://en.wikipedia.org/wiki/Protestantism" TargetMode="External"/><Relationship Id="rId10" Type="http://schemas.openxmlformats.org/officeDocument/2006/relationships/hyperlink" Target="http://en.wikipedia.org/wiki/Church_of_England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Ascension_of_Jesus" TargetMode="External"/><Relationship Id="rId3" Type="http://schemas.openxmlformats.org/officeDocument/2006/relationships/hyperlink" Target="http://livepage.apple.com/" TargetMode="External"/><Relationship Id="rId4" Type="http://schemas.openxmlformats.org/officeDocument/2006/relationships/hyperlink" Target="http://www.christiancadre.org/historic.html" TargetMode="External"/><Relationship Id="rId5" Type="http://schemas.openxmlformats.org/officeDocument/2006/relationships/hyperlink" Target="http://en.wikipedia.org/wiki/Christopher_Columbus" TargetMode="External"/><Relationship Id="rId6" Type="http://schemas.openxmlformats.org/officeDocument/2006/relationships/hyperlink" Target="http://www.earlychurch.org.uk/index.html" TargetMode="External"/><Relationship Id="rId7" Type="http://schemas.openxmlformats.org/officeDocument/2006/relationships/hyperlink" Target="http://en.wikipedia.org/wiki/Easter" TargetMode="External"/><Relationship Id="rId8" Type="http://schemas.openxmlformats.org/officeDocument/2006/relationships/hyperlink" Target="http://en.wikipedia.org/wiki/Resurrection_of_Jesus" TargetMode="External"/><Relationship Id="rId9" Type="http://schemas.openxmlformats.org/officeDocument/2006/relationships/hyperlink" Target="http://themasterstable.wordpress.com/2008/10/13/the-villany-of-christopher-columbus/" TargetMode="External"/><Relationship Id="rId10" Type="http://schemas.openxmlformats.org/officeDocument/2006/relationships/hyperlink" Target="http://www.allabouttruth.org/10-commandments.htm" TargetMode="External"/><Relationship Id="rId11" Type="http://schemas.openxmlformats.org/officeDocument/2006/relationships/hyperlink" Target="http://www.the-ten-commandments.org/" TargetMode="External"/><Relationship Id="rId12" Type="http://schemas.openxmlformats.org/officeDocument/2006/relationships/hyperlink" Target="http://en.wikipedia.org/wiki/Trinity" TargetMode="External"/><Relationship Id="rId13" Type="http://schemas.openxmlformats.org/officeDocument/2006/relationships/hyperlink" Target="http://en.wikipedia.org/wiki/Christianity_and_homosexuality" TargetMode="External"/><Relationship Id="rId14" Type="http://schemas.openxmlformats.org/officeDocument/2006/relationships/hyperlink" Target="http://johntracy.me/blog/?p=611" TargetMode="External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Bible" TargetMode="External"/><Relationship Id="rId3" Type="http://schemas.openxmlformats.org/officeDocument/2006/relationships/hyperlink" Target="http://en.wikipedia.org/wiki/Christian_cross" TargetMode="External"/><Relationship Id="rId4" Type="http://schemas.openxmlformats.org/officeDocument/2006/relationships/hyperlink" Target="http://en.wikipedia.org/wiki/Crusades" TargetMode="External"/><Relationship Id="rId5" Type="http://schemas.openxmlformats.org/officeDocument/2006/relationships/hyperlink" Target="http://en.wikipedia.org/wiki/File:Duccio_di_Buoninsegna_017.jpg" TargetMode="External"/><Relationship Id="rId6" Type="http://schemas.openxmlformats.org/officeDocument/2006/relationships/hyperlink" Target="http://en.wikipedia.org/wiki/Halo_(religious_iconography)" TargetMode="External"/><Relationship Id="rId7" Type="http://schemas.openxmlformats.org/officeDocument/2006/relationships/hyperlink" Target="http://en.wikipedia.org/wiki/On_the_Origin_of_Species" TargetMode="External"/><Relationship Id="rId8" Type="http://schemas.openxmlformats.org/officeDocument/2006/relationships/hyperlink" Target="http://en.wikipedia.org/wiki/Holy_Land" TargetMode="External"/><Relationship Id="rId9" Type="http://schemas.openxmlformats.org/officeDocument/2006/relationships/hyperlink" Target="http://www.1st-art-gallery.com/Piero-Di-Cosimo/St-Mary-Magdalene-1490s.html" TargetMode="External"/><Relationship Id="rId10" Type="http://schemas.openxmlformats.org/officeDocument/2006/relationships/hyperlink" Target="http://holgerawakens.blogspot.com/2010/07/united-arab-emirates-ambassador-to-us.html" TargetMode="External"/><Relationship Id="rId11" Type="http://schemas.openxmlformats.org/officeDocument/2006/relationships/hyperlink" Target="http://en.wikipedia.org/wiki/Women_in_Christianity" TargetMode="External"/><Relationship Id="rId12" Type="http://schemas.openxmlformats.org/officeDocument/2006/relationships/hyperlink" Target="http://owlfarmer.com/HAD1/ImagesRomantoOttoman.htm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hyperlink" Target="http://www.youtube.com/watch?v=woBEZR8BiNM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36080" y="111240"/>
            <a:ext cx="8890200" cy="1549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Christianity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11840" y="2080800"/>
            <a:ext cx="3419280" cy="267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9600" indent="0" algn="ctr">
              <a:lnSpc>
                <a:spcPct val="100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Palatino"/>
              </a:rPr>
              <a:t>By: Zachary Wood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698400" y="1981080"/>
            <a:ext cx="3949920" cy="39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Timeline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Jesus was born c. 5 BCE, and died c. 30 CE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80 CE - The teachings of the 12 Apostle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1095 CE - 1232 CE - The Crusade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1534 CE - Church of England secedes from Rome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1492 CE - Columbus lands in the America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1775 CE - The United States is founded as a Christian country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Bibliography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445240" cy="530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s, Larry. The New Adventure Bible: New International Version. Grand Rapids, MI: Zondervan, 1994. Print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hristianity." Wikipedia, the Free Encyclopedia. Web. 20 Oct. 2010. &lt;http://en.wikipedia.org/wiki/Christianity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File:StJohnsAshfield StainedGlass GoodShepherd Face.jpg." Wikipedia, the Free Encyclopedia. Web. 20 Oct. 2010. 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0">
              <a:lnSpc>
                <a:spcPct val="1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en.wikipedia.org/wiki/File:StJohnsAshfield_StainedGlass_GoodShepherd_Face.jp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Jesus." Wikipedia, the Free Encyclopedia. Web. 20 Oct. 2010. &lt;http://en.wikipedia.org/wiki/Jesus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imeline of Christianity." Wikipedia, the Free Encyclopedia. Web. 23 Oct. 2010. 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en.wikipedia.org/wiki/Timeline_of_Christianity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Bishop (Catholic Church)." Wikipedia, the Free Encyclopedia. Web. 23 Oct. 2010. 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en.wikipedia.org/wiki/Bishop_(Catholic_Churc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atholic Church." Wikipedia, the Free Encyclopedia. Web. 23 Oct. 2010. 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en.wikipedia.org/wiki/Roman_Catholicis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ope Benedict XVI | Catholic Greetings." Catholic Greetings - Free E-mail Catholic Christian Greeting Cards. Web. 23 Oct. 2010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0">
              <a:lnSpc>
                <a:spcPct val="1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catholicgreetings.org/viewingcard.aspx?cardid=77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ardinal (Catholicism)." Wikipedia, the Free Encyclopedia. Web. 23 Oct. 2010. 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en.wikipedia.org/wiki/Cardinal_(Catholicis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eacon." Wikipedia, the Free Encyclopedia. Web. 23 Oct. 2010. 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en.wikipedia.org/wiki/Deac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Protestantism." Wikipedia, the Free Encyclopedia. Web. 23 Oct. 2010. 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en.wikipedia.org/wiki/Protestantis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  <a:p>
            <a:pPr marL="343080" indent="-34308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hurch of England." Wikipedia, the Free Encyclopedia. Web. 23 Oct. 2010. &lt;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en.wikipedia.org/wiki/Church_of_Englan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10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Bibliography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160" y="1308240"/>
            <a:ext cx="8420040" cy="530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scension of Jesus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en.wikipedia.org/wiki/Ascension_of_Jesu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Blog Pics :: The Last Supper Picture by Thecathoderaychoob - Photobucket." Image Hosting, Free Photo Sharing &amp; Video Sharing at Photobucket. 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0">
              <a:lnSpc>
                <a:spcPct val="1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s546.photobucket.com/albums/hh423/thecathoderaychoob/Blog Pics/?action=view¤t=last_supper_davinci.jpg&amp;sort=ascending&amp;co=10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hristian History." Christian CADRE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christiancadre.org/historic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hristopher Columbus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en.wikipedia.org/wiki/Christopher_Columbu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2323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Church.org.uk: An Internet Resource for the Study of the Early Centuries of Christianity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earlychurch.org.uk/index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Easter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en.wikipedia.org/wiki/Easter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Resurrection of Jesus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en.wikipedia.org/wiki/Resurrection_of_Jesu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Villany of Christopher Columbus « The Master's Table." The Master's Table. Web. 23 Oct. 2010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0">
              <a:lnSpc>
                <a:spcPct val="1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themasterstable.wordpress.com/2008/10/13/the-villany-of-christopher-columbus/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Commandments." Truth - AllAboutTruth.org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allabouttruth.org/10-commandments.ht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n Commandments - God's Ten Bible Commandments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the-ten-commandments.org/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rinity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en.wikipedia.org/wiki/Tri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hristianity and Homosexuality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en.wikipedia.org/wiki/Christianity_and_homosexual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racy Talk » Blog Archive » What I Think About…Separation of Church &amp; State." John Tracy, For God, Family, and Country! Web. 23 Oct. 2010. 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0">
              <a:lnSpc>
                <a:spcPct val="1000"/>
              </a:lnSpc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johntracy.me/blog/?p=61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Bibliography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2080" y="1689120"/>
            <a:ext cx="8343720" cy="488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Bible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en.wikipedia.org/wiki/Bibl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hristian Cross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en.wikipedia.org/wiki/Christian_cros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rusades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en.wikipedia.org/wiki/Crusad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File:Duccio Di Buoninsegna 017.jpg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en.wikipedia.org/wiki/File:Duccio_di_Buoninsegna_017.jp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alo (religious Iconography)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en.wikipedia.org/wiki/Halo_(religious_iconography)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n the Origin of Species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en.wikipedia.org/wiki/On_the_Origin_of_Specie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oly Land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en.wikipedia.org/wiki/Holy_La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t Mary Magdalene 1490s Piero Di Cosimo | Oil Painting Reproduction." Oil Paintings Reproductions - Handmade Oil 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tings on Canvas &amp; Art Reproductions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www.1st-art-gallery.com/Piero-Di-Cosimo/St-Mary-Magdalene-1490s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United Arab Emirates Ambassador to the U.S.: American or Israeli Military Strikes On Iran Preferred To Mullahs With Nukes." 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ger Awakens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holgerawakens.blogspot.com/2010/07/united-arab-emirates-ambassador-to-us.htm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Women in Christianity." Wikipedia, the Free Encyclopedia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en.wikipedia.org/wiki/Women_in_Christianity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RomantoOttoman." </a:t>
            </a:r>
            <a:r>
              <a:rPr b="0" lang="en-US" sz="9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Owldropping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eb. 23 Oct. 2010. &lt;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owlfarmer.com/HAD1/ImagesRomantoOttoman.ht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"/>
              </a:lnSpc>
              <a:spcBef>
                <a:spcPts val="2299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eparation of Church and State." Wikipedia, the Free Encyclopedia. Web. 23 Oct. 2010. &lt;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en.wikipedia.org/wiki/Separation_of_church_and_stat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.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  <a:p>
            <a:pPr marL="330120" indent="0">
              <a:lnSpc>
                <a:spcPct val="1000"/>
              </a:lnSpc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Religious Structure - Catholic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816200"/>
            <a:ext cx="7632720" cy="4178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d6d"/>
                </a:solidFill>
                <a:latin typeface="Palatino"/>
              </a:rPr>
              <a:t>The leader of the Catholic Church is the Pope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d6d"/>
                </a:solidFill>
                <a:latin typeface="Palatino"/>
              </a:rPr>
              <a:t>Directly below him is the College of Cardinals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d6d"/>
                </a:solidFill>
                <a:latin typeface="Palatino"/>
              </a:rPr>
              <a:t>Bishops are appointed to oversee dioceses (regions)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d6d"/>
                </a:solidFill>
                <a:latin typeface="Palatino"/>
              </a:rPr>
              <a:t>Bishops can also hold other roles such as archbishop, cardinal, or pope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d6d"/>
                </a:solidFill>
                <a:latin typeface="Palatino"/>
              </a:rPr>
              <a:t>Diocese are then split into parishes overseen by one or more priests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d6d"/>
                </a:solidFill>
                <a:latin typeface="Palatino"/>
              </a:rPr>
              <a:t>A priest may be assisted by a deacon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8"/>
          <a:stretch/>
        </p:blipFill>
        <p:spPr>
          <a:xfrm>
            <a:off x="6629400" y="1197000"/>
            <a:ext cx="175248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Major Contributors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Jesu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12 Apostle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Pope Urban II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Henry VIII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Christopher Columbu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5130720" y="2128680"/>
            <a:ext cx="2933640" cy="25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Fundamental Principles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74720" y="1815840"/>
            <a:ext cx="7594560" cy="1904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Rules: the 10 Commandment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eachings: The Trinity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Holidays: Christmas, Easter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2171880" y="3727440"/>
            <a:ext cx="4787640" cy="2533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184480" y="6483240"/>
            <a:ext cx="4559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Palatino"/>
                <a:ea typeface="Palatino"/>
                <a:hlinkClick r:id="rId6"/>
              </a:rPr>
              <a:t>http://www.youtube.com/watch?v=woBEZR8BiNM</a:t>
            </a:r>
            <a:endParaRPr b="0" lang="en-US" sz="9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Holy Literature, locations, symbols, artifacts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e Bible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e Holy Land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e Rosary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The Cross/Crucifix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6"/>
          <a:srcRect l="982" t="8697" r="40661" b="42992"/>
          <a:stretch/>
        </p:blipFill>
        <p:spPr>
          <a:xfrm>
            <a:off x="3949560" y="2273400"/>
            <a:ext cx="451332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impacts to art, science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Halos around pre-renaissance art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Darwin’s Origin of Species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Galileo 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5"/>
          <a:stretch/>
        </p:blipFill>
        <p:spPr>
          <a:xfrm>
            <a:off x="5346720" y="3772080"/>
            <a:ext cx="302256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roles of women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Jesus spoke to and helped women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Many churches allow only men to be ordained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6726240" y="1816200"/>
            <a:ext cx="169560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maps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rcRect l="4721" t="0" r="9292" b="11985"/>
          <a:stretch/>
        </p:blipFill>
        <p:spPr>
          <a:xfrm>
            <a:off x="914400" y="1544760"/>
            <a:ext cx="730260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61760" y="177840"/>
            <a:ext cx="7607160" cy="140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Palatino"/>
              </a:rPr>
              <a:t>INfluence on politics</a:t>
            </a:r>
            <a:endParaRPr b="1" lang="en-US" sz="4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61760" y="1816200"/>
            <a:ext cx="7607160" cy="4292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Abortion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  <a:p>
            <a:pPr marL="330120" indent="-330120">
              <a:lnSpc>
                <a:spcPct val="100000"/>
              </a:lnSpc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d6d6d"/>
                </a:solidFill>
                <a:latin typeface="Palatino"/>
              </a:rPr>
              <a:t>Homosexuality</a:t>
            </a:r>
            <a:endParaRPr b="0" lang="en-US" sz="2200" spc="-1" strike="noStrike">
              <a:solidFill>
                <a:srgbClr val="6d6d6d"/>
              </a:solidFill>
              <a:latin typeface="Palatino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5661000" y="2374920"/>
            <a:ext cx="27972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/>
  <cp:revision>0</cp:revision>
  <dc:subject/>
  <dc:title>Christianity</dc:title>
</cp:coreProperties>
</file>